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B1045-9D73-48C2-B774-EFD019D4EC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8539F-1512-4061-83E6-24C63FCD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5B02F-1536-46D9-B0B8-9CCB6411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885EA-B7DC-4DD7-81F9-C05D380A9F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A54ED-DE38-4D1A-AD96-E09F79B9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7096A-A610-4B35-A5B9-5AC1C61B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05184-DFC8-4928-84D3-2A24BA6C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3050B-8120-436A-A224-7CB5F2933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F4C53-8299-4F7C-B22D-713796F18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453E5-0AE9-49A1-9E43-75ADDBE6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93F4C-9708-4928-A608-232C0A9D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1797C-D5EC-48F4-B113-4252B5CC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054D-BC2A-4B99-9E60-C53FBAC1BD0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治疗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七节  传统康复疗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补虚泻实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实证要用补法，虚证要用泻法，中气不足、脉络空虚、脉象沉伏无力、阳气暴脱要用灸法，瘀阻疾病要用刺血法，无虚实可言的疾病可取病变经脉的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99640" y="1125000"/>
            <a:ext cx="600084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局部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局部取穴就是围绕受病的局部取穴。这是根据穴位都能治疗所在部位的局部病症而确定的取穴方法。多用于病变部位比较明确及一些器质性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临近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邻近取穴是在距离病变部位比较接近的范围内取穴。多用于治疗胸腹腰背疼痛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755640" y="1054080"/>
            <a:ext cx="6500880" cy="65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远端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远端取穴是在距离病变部位较远的部位选穴。这种选穴方法体现了“经脉所过，主治所及”的治疗规律。多选择四肢肘膝以下的经穴治疗头面、五官、躯干、内脏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辨证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临床上有许多全身性病症，如失眠、发热等，无法确定病变的位置，需要对疾病进行辩证分析，以确定属于某个脏腑或者某条经脉，再按经取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684000" y="1125000"/>
            <a:ext cx="650052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24000" y="3141360"/>
            <a:ext cx="857232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随症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对于个别突出症状，可选择治疗该症状效果显著的穴位。这些穴位是经过长期实践总结出来的有效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539640" y="1557360"/>
            <a:ext cx="6500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推拿疗法是医者用手或者身体其他部位，采用各种特定的动作，按照一定的要求作用于患者体表的穴位或者部位，使其内部的生理或病理状况得到改善，达到预防保健目的的治疗方法。常见按摩手法分类包括：摩擦类、挤压类、摆动类、振动类、叩击类、运动关节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念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理气活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通过手法作用于穴位可使局部血液循环加快，气机恢复正常，经络通畅，机体得到气血的濡养功能恢复正常则疼痛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整骨复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当人体关节由于外力或者自身用力不当引起关节错位或脱位，产生关节肿胀、疼痛、功能障碍或丧失，通过一些特定的手法如：揉法、拔伸法、推法、扳法、按法等可使其得到整复，疼痛消失，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900000" y="112536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用原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伤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颈椎病、肩周炎、腰椎间盘突出症、腰肌劳损、落枕及各种扭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内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胃痛、头痛、失眠、高血压、面神经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外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乳腺炎、妇科的痛经、闭经、产后耻骨联合分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儿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咳嗽、腹泻、呕吐、疳积、夜啼、惊风、肌性斜颈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900000" y="112536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适应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中国传统体育疗法是以祖国传统医学理论为依据，通过姿势的调整、呼吸的锻炼、意念的应用来调节和增强人体各部分功能，诱导和启发人体内在潜能，起到防病、治病、益智、延年的作用。常见传统体育疗法包括导引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如五禽戏、八段锦、易筋经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武术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如太极拳、太极剑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和气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念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八段锦是古人创编的八节不同动作组成的一套医疗、康复体操，即双手托天理三焦，左右开弓似射雕，调理脾胃须单举，五劳七伤往后瞧，摇头摆尾去心火，两手攀足固肾腰，攒拳怒目增力气，背后七颠百病消。具有柔筋健骨、养气壮力、行气活血、协调五脏六腑之功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八段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双手托天理三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2247840" y="1557360"/>
            <a:ext cx="46483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针灸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推拿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传统体育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左右弯弓似射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32670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调理脾胃单举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3060720" y="1413000"/>
            <a:ext cx="278928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劳七伤向后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2919240" y="1341360"/>
            <a:ext cx="330552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摇头摆尾去心火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2900520" y="1909800"/>
            <a:ext cx="33429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2181240" y="1328760"/>
            <a:ext cx="47815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2328840" y="1600200"/>
            <a:ext cx="4486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背后七颠百病消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3166920" y="1171440"/>
            <a:ext cx="281016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戏是通过模仿虎，鹿，熊，猿，鸟（鹤）五种动物的动作，以保健强身的一种气功功法。又称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操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气功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百步汗戏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等。锻炼时要注意全身放松，意守丹田，呼吸均匀，做到形、神与五禽相像。传统五禽戏，共有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4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动作；由中国体育委员会新编的简化五禽戏，每戏分两个动作，每种动作左右对称，并配合气息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五禽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828720" y="1341360"/>
            <a:ext cx="72723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易筋经是一种内外兼练的医疗保健养生功法，包括十二势，分别为韦驮献杵、横担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降魔杵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掌托天门、摘星换斗势、倒拽九牛尾势、出爪亮翅势、九鬼拔马刀势、三盘落地势、青龙探爪势、卧虎扑食势、打躬势、掉尾势。易筋经强调以一定姿势，借呼吸诱导，逐步加强筋脉和脏腑的功能。适合中、青、老年人群习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84360" y="1125360"/>
            <a:ext cx="728640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筋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3530-1D61-4A62-A2B8-F82BE0F2CE3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84360" y="1343160"/>
            <a:ext cx="80643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陈述针灸疗法的概念、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识别推拿疗法的概念、作用原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针灸疗法穴位的选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传统体育疗法的治疗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传统康复方法进行康复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02180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2854440"/>
            <a:ext cx="857232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太极拳，是以中国传统儒、道哲学中的太极、阴阳辩证理念为核心思想，集颐养性情、强身健体、技击对抗等多种功能为一体，针对意、气、形、神的锻炼形式，非常符合人体生理和心理的要求，对人类个体身心健康以及人类群体的和谐共处，有着极为重要的促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12720" y="170172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太极拳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043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BB5E-4E4B-4342-BB75-932C8EB0546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12360" y="2494080"/>
            <a:ext cx="748044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针灸疗法是通过针刺或灸，作用于人体经络、脏腑系统，以疏通经络气血，调节脏腑阴阳，达到康复目的的治疗方法。针灸的部位是经络和穴位，人体经络分为十二正经、奇经八脉，穴位分为十四经穴、阿是穴、奇穴，人体共有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61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187280" y="1485720"/>
            <a:ext cx="4857840" cy="650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概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6360" y="2781000"/>
            <a:ext cx="8572680" cy="32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疏通经络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疏通经络是针灸治疗最主要最直接的作用。经脉闭阻不通，人体气血运行不畅，在某些部位导致气滞血瘀，会发生肢体或脏腑组织的肿胀疼痛，由于气滞血瘀，某些部位就失去了气血的濡养，会发生肢体的麻木、萎软、拘挛或脏腑组织功能失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971640" y="1485720"/>
            <a:ext cx="4857840" cy="650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96720" y="2421000"/>
            <a:ext cx="842976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扶正祛邪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扶正祛邪是针灸治疗的根本法则和手段。疾病的发生、发展和转归的过程就是正气和邪气相互斗争的过程。扶正，就是扶助正气；祛邪，就是祛除病邪。在治疗的过程中，通过选择穴位和应用不同的补泻手法来实现扶正和祛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755640" y="141300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4000" y="2565360"/>
            <a:ext cx="857232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调和阴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调和阴阳是针灸治疗的最终目的。疾病的发生，从根本上说是机体的阴阳失去了相对平衡引起的。治疗疾病，先分清阴阳发生的变化，再通过选择不同的针灸方法使机体的阴阳趋于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44360" y="1773360"/>
            <a:ext cx="485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2565360"/>
            <a:ext cx="8572320" cy="28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治神守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神守气贯穿针灸治疗的全过程，针刺前，医者和患者都需安神定志，针刺过程中，医者和患者要感受针下得气的感觉。治神守气对于经气的运行、加速气至、促进气行以及气至病所都起到重要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828360" y="1413000"/>
            <a:ext cx="6000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清热温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清热温寒是针灸治疗的根本大法之一。热性的疾病可采用浅刺快出或点刺出血，手法轻快，用泻法，少留针或不留针，清泻邪热。寒性疾病可采用深刺而久留针，温经散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99640" y="1054080"/>
            <a:ext cx="6000840" cy="65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15:36Z</dcterms:modified>
  <cp:revision>1</cp:revision>
  <dc:subject/>
  <dc:title>   第四章  康复治疗技术</dc:title>
</cp:coreProperties>
</file>